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2D492-8990-4CF3-BC8F-8FBD06168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474B2-8BF3-467B-BC62-792178087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8B6F3-F042-4B4E-9F6C-CF3C657E1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C21FC-546D-4240-B04D-8B415B549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736A8-F8F0-4A75-B049-29A6A2CF4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00846-4D9A-4DA8-AB6A-865FD62E6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B1991-450C-4AE3-8937-9CF740355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6B7D2-B163-4453-8BB6-04262CE34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C0A04-44CB-48F4-8D7A-BE3EC95EF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92BE9-3AF6-4BB2-B68B-7F57ED95B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D7519-4B8F-42CD-A94B-87A596AB0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D5698-7338-4240-AF77-6964AE541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E237C-8D7F-4059-9044-9AD9B9A94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89CC7-0F11-4BA9-A3CF-D53CA5EC5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3FF8E-BC5A-4CDC-9D51-262B966E5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63291-8B19-42CE-A873-E60DE4FDA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BF0A3-6634-45BA-BEB6-F06AC2361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5A9C6-5744-4AE4-8764-1C88CEB41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21C0E-6674-44ED-9C6C-D8C2447AA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3B52E-8A42-4F06-B0C6-BEBD8D202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6F797-88BF-4274-85FE-23945EA58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D2054-44C9-4856-AA3F-83EF38615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1C7F-B505-4AE6-A530-20AAF1590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5F571-F394-4CEC-AFC8-72C3245A9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3E97-12FB-464C-8701-1CED7300A18A}"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9CAC-BCF8-40E5-A41D-B6E354AA79B9}"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ot </a:t>
            </a:r>
            <a:endParaRPr b="0" lang="en-US" sz="4400" spc="-1" strike="noStrike">
              <a:solidFill>
                <a:srgbClr val="ffffff"/>
              </a:solidFill>
              <a:latin typeface="Arial Black"/>
            </a:endParaRPr>
          </a:p>
        </p:txBody>
      </p:sp>
      <p:graphicFrame>
        <p:nvGraphicFramePr>
          <p:cNvPr id="350" name=""/>
          <p:cNvGraphicFramePr/>
          <p:nvPr/>
        </p:nvGraphicFramePr>
        <p:xfrm>
          <a:off x="609480" y="380880"/>
          <a:ext cx="7925040" cy="5639040"/>
        </p:xfrm>
        <a:graphic>
          <a:graphicData uri="http://schemas.openxmlformats.org/presentationml/2006/ole">
            <p:oleObj r:id="rId1" spid="">
              <p:embed/>
              <p:pic>
                <p:nvPicPr>
                  <p:cNvPr id="351" name="" descr=""/>
                  <p:cNvPicPr/>
                  <p:nvPr/>
                </p:nvPicPr>
                <p:blipFill>
                  <a:blip r:embed="rId2"/>
                  <a:stretch/>
                </p:blipFill>
                <p:spPr>
                  <a:xfrm>
                    <a:off x="609480" y="380880"/>
                    <a:ext cx="792504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Black"/>
              </a:rPr>
              <a:t>Career Path</a:t>
            </a:r>
            <a:br>
              <a:rPr sz="4000"/>
            </a:br>
            <a:r>
              <a:rPr b="0" lang="en-US" sz="4000" spc="-1" strike="noStrike">
                <a:solidFill>
                  <a:srgbClr val="ffffff"/>
                </a:solidFill>
                <a:latin typeface="Arial Black"/>
              </a:rPr>
              <a:t>21</a:t>
            </a:r>
            <a:r>
              <a:rPr b="0" lang="en-US" sz="4000" spc="-1" strike="noStrike" baseline="30000">
                <a:solidFill>
                  <a:srgbClr val="ffffff"/>
                </a:solidFill>
                <a:latin typeface="Arial Black"/>
              </a:rPr>
              <a:t>st</a:t>
            </a:r>
            <a:r>
              <a:rPr b="0" lang="en-US" sz="4000" spc="-1" strike="noStrike">
                <a:solidFill>
                  <a:srgbClr val="ffffff"/>
                </a:solidFill>
                <a:latin typeface="Arial Black"/>
              </a:rPr>
              <a:t> Century Literacy</a:t>
            </a:r>
            <a:endParaRPr b="0" lang="en-US" sz="40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ebmaster, P. 83</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ebmaster Stephanie Cocker is her own boss.  Students take a look at a typical day in her schedule to get a better sense of how she created websites for bloggers, companies, and other clients.</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dia Literacy</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rap-Up Project</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hat is on Dr. Jekyll or Mr. Hyde’s “FriendlyFace” page?, p. 84</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f Dr. Jekyll or Mr. Hyde had a social networking page, what would it say?  Students will create a Web page for one of the characters—complete with status updates, friends and links.</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resentation</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What Lies Beneath</a:t>
            </a:r>
            <a:br>
              <a:rPr sz="4000"/>
            </a:br>
            <a:r>
              <a:rPr b="0" lang="en-US" sz="1400" spc="-1" strike="noStrike">
                <a:solidFill>
                  <a:srgbClr val="ffffff"/>
                </a:solidFill>
                <a:latin typeface="Arial Black"/>
              </a:rPr>
              <a:t>In these selections, readers explore the hidden emotions and struggles behind the faces that seemingly ordinary characters show the world.</a:t>
            </a:r>
            <a:endParaRPr b="0" lang="en-US" sz="1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Story Elements</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lot</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tting</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aracter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m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Literary Elements</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ood</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peaker/Person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Figurative Languag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ocabulary</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rget Word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efix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uffixe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riting</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escriptive Paragrap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rammar</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rrecting Run-On Sentenc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Using Correct Word Order</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nchor Video</a:t>
            </a:r>
            <a:br>
              <a:rPr sz="4400"/>
            </a:br>
            <a:r>
              <a:rPr b="0" lang="en-US" sz="4400" spc="-1" strike="noStrike">
                <a:solidFill>
                  <a:srgbClr val="ffffff"/>
                </a:solidFill>
                <a:latin typeface="Arial Black"/>
              </a:rPr>
              <a:t>Vampire Mania, p. 56M</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rom </a:t>
            </a:r>
            <a:r>
              <a:rPr b="0" i="1" lang="en-US" sz="3200" spc="-1" strike="noStrike">
                <a:solidFill>
                  <a:srgbClr val="ffcc00"/>
                </a:solidFill>
                <a:latin typeface="Arial Black"/>
              </a:rPr>
              <a:t>Count Dracula</a:t>
            </a:r>
            <a:r>
              <a:rPr b="0" lang="en-US" sz="3200" spc="-1" strike="noStrike">
                <a:solidFill>
                  <a:srgbClr val="ffcc00"/>
                </a:solidFill>
                <a:latin typeface="Arial Black"/>
              </a:rPr>
              <a:t> to </a:t>
            </a:r>
            <a:r>
              <a:rPr b="0" i="1" lang="en-US" sz="3200" spc="-1" strike="noStrike">
                <a:solidFill>
                  <a:srgbClr val="ffcc00"/>
                </a:solidFill>
                <a:latin typeface="Arial Black"/>
              </a:rPr>
              <a:t>Twlight’s</a:t>
            </a:r>
            <a:r>
              <a:rPr b="0" lang="en-US" sz="3200" spc="-1" strike="noStrike">
                <a:solidFill>
                  <a:srgbClr val="ffcc00"/>
                </a:solidFill>
                <a:latin typeface="Arial Black"/>
              </a:rPr>
              <a:t> Edward Cullen, vampires have been part of popular culture for more than 100 years.  This video outlines the history of the vampire and analyzes the traits—both good and evil—that motivate fans to follow this everlasting character.</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The Strange Case of Dr. Jekyll and Mr. Hyde</a:t>
            </a:r>
            <a:r>
              <a:rPr b="0" lang="en-US" sz="4000" spc="-1" strike="noStrike">
                <a:solidFill>
                  <a:srgbClr val="ffffff"/>
                </a:solidFill>
                <a:latin typeface="Arial Black"/>
              </a:rPr>
              <a:t>, p. 58</a:t>
            </a:r>
            <a:endParaRPr b="0" lang="en-US" sz="40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y Robert Louis Stevenson, adapted by Michael Sandler</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spected Dr. Jekyll has included the mysterious Mr. Hyde in his will.  What hold does the violent stranger have over the kind doctor?  Can both men survive the conflict between good and evil?</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ading 1</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t>
            </a:r>
            <a:r>
              <a:rPr b="0" lang="en-US" sz="4400" spc="-1" strike="noStrike">
                <a:solidFill>
                  <a:srgbClr val="ffffff"/>
                </a:solidFill>
                <a:latin typeface="Arial Black"/>
              </a:rPr>
              <a:t>Shadow Watcher”</a:t>
            </a:r>
            <a:br>
              <a:rPr sz="4400"/>
            </a:br>
            <a:r>
              <a:rPr b="0" lang="en-US" sz="4400" spc="-1" strike="noStrike">
                <a:solidFill>
                  <a:srgbClr val="ffffff"/>
                </a:solidFill>
                <a:latin typeface="Arial Black"/>
              </a:rPr>
              <a:t>Reading 2</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age 72</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Tim Seib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poem’s speaker explores the trouble in the world, the people who cause it, and how it affects him.</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etr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sit a Fan Website</a:t>
            </a:r>
            <a:br>
              <a:rPr sz="4400"/>
            </a:br>
            <a:r>
              <a:rPr b="0" lang="en-US" sz="4400" spc="-1" strike="noStrike">
                <a:solidFill>
                  <a:srgbClr val="ffffff"/>
                </a:solidFill>
                <a:latin typeface="Arial Black"/>
              </a:rPr>
              <a:t>21 Century Literacy</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 82</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Loyal fans use websites to share all the latest gossip and news about their favorite authors, celebrities, and movies.  To analyze this media, students will explore these sites’ feathers and credibility.</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formational</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5T01:18:46Z</dcterms:created>
  <dc:creator>Barbara Vogt</dc:creator>
  <dc:description/>
  <dc:language>en-US</dc:language>
  <cp:lastModifiedBy>Barbara Vogt</cp:lastModifiedBy>
  <dcterms:modified xsi:type="dcterms:W3CDTF">2012-01-15T01:52:59Z</dcterms:modified>
  <cp:revision>3</cp:revision>
  <dc:subject/>
  <dc:title>Plot </dc:title>
</cp:coreProperties>
</file>